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716E-596D-41D1-90C0-B6E669EB4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line in u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not been especially helpful in making decisions about specific instructional interventions or teaching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often set low expectations for student, resulting in diminshed effort to teach students who earn low sc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, mentally retarded, specific subgroups…who are then disproportionately placed in special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ts have found IQ test discriminatory and mandated an end to their use (p. 241, Salvia, et 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ccultur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. 2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dividual’s particular set of background experiences and opportunities to learn in both formal and informal educational sett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6005-3595-4DC9-955A-9E3C9A889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49A-B1FD-460E-BAB2-397C8922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F73-C2BA-4544-A9F5-C277D8E3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F2A-C0FE-435F-8D30-418F960B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384-F472-4D4C-BC31-2944D518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F855-8DC2-47A3-82E9-9889FB31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1984-0BF1-4AA3-B5D6-C127ABCA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7F71-F7B4-4860-A766-B44EA640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3CD3-0D0C-418D-8A78-02A82646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5B12-F265-493D-A236-42F7E14B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77F5-2E50-47F1-AC33-2F8F48A6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B417-C344-4FCF-B77B-CB477241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D51-CA48-4E37-907A-6CC54031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8575-2B1C-45F6-8A45-A6E20D32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F67C-F9C4-4913-AD28-58D9FB1A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161C-444A-402D-9E78-E4EBDC24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EB51-9CAE-4720-8248-AD554063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7F66-3B55-49E6-8F8F-3A1B8FC3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CC56-C982-49EA-8A2D-DD87CD86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2F8-8976-4082-A061-3D380760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31C-CEF3-47CB-83D4-56055D42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53E-67D3-47CC-816A-C25E54AC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78C-DAEE-4526-9A33-AB89AD3E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00F-9E27-42D8-A31E-BBBEA993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91DD-06B6-4549-8F01-270A8CAB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9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noFill/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a1f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35A1-8946-473F-89B9-975D2C11D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9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noFill/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a1f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4D48-85C9-4CAB-A977-50F9FC015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34160" cy="16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Q Testing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eb Quest Projec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040" y="335268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ta Achampong, Marisol Craig, Christy Gruver, Patty Hillery, Lori Stol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mm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McNiff – ED 5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qtestinggroup"/>
          <p:cNvPicPr/>
          <p:nvPr/>
        </p:nvPicPr>
        <p:blipFill>
          <a:blip r:embed="rId1"/>
          <a:stretch/>
        </p:blipFill>
        <p:spPr>
          <a:xfrm rot="20880600">
            <a:off x="1198080" y="515880"/>
            <a:ext cx="14479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Q Test Biases VS IQ Test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ersonality-and-aptitude-career-tests.com/iq-test-bias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∙tel∙li∙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ferred ability; a term or construct used to explain differences in present behavior and to predict difference in futur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IQ Tes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Q testing? What does it look like? How is it administered? What does it measure exactly and based on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ly Used IQ Te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76520"/>
            <a:ext cx="8381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ufman Assessment Batter for Childre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is-Lennon School Ability Test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body Picture Vocabulary Test-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-Binet Intelligence Scale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chsler Intelligence Scale for Children-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cock-Johnson III Tests of Cognitive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efit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.Q.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rsg.education.wisc.edu/gifted/iq_testing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efit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efit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Unconscious Bias of Intelligence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outhernct.edu/organizations/hcr/2001/nonfiction/testbia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7:52:31Z</dcterms:created>
  <dc:creator>Andrew</dc:creator>
  <dc:description/>
  <dc:language>en-US</dc:language>
  <cp:lastModifiedBy>LORI</cp:lastModifiedBy>
  <dcterms:modified xsi:type="dcterms:W3CDTF">2010-05-30T14:42:54Z</dcterms:modified>
  <cp:revision>13</cp:revision>
  <dc:subject/>
  <dc:title>Published Test Instrument Critique WIAT</dc:title>
</cp:coreProperties>
</file>